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ed Intervention:  use of diagnostic test to target specific intervention based on student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for conceptual understanding not just procedural pro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ful practice ~ elearning activites, practice that involves thinking and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Representation ~ use of manips and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7ABF-CE40-4CA4-A35F-48FB6A93D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47AB-3C4A-45F0-8D49-873873A6D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B5A6-9608-4960-91C3-DC8963CE5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E87C-BC3B-4629-8BF4-9CD9017252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CDC2-B161-447A-87F1-E0E2CC216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DA03-72A0-4FFB-9C94-14D541767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38FA-0D67-4B75-83C0-74CBD20AD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8168-0464-45AB-BCD8-DF4E108E2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F86F-9E17-4B19-B3D0-7F976E1E5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38EC-6B1A-4927-9E4E-885BFEFC8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83F7-B772-4309-86EC-B3FB52B2C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9D2A-D6B1-4A23-AF9B-7461FF075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760B-E077-4571-9802-3E868C28D2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EB4B-032A-4F61-8730-6D226F33CD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 Session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Nottaws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orking with Struggling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AP 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ca9"/>
                </a:solidFill>
                <a:latin typeface="Arial"/>
              </a:rPr>
              <a:t>Proportional Reasoning ~ Session #4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key pedagogical components of GAP clos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ore the use of open questions for working with struggli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ntent that is particularly problematic for struggli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3327-1C52-429E-B2C7-B2721FDBD8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2875-C785-44EA-8881-D76C8B5439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Inside/Outside Circ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etting Re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about a specific struggling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features of GAP closing might be most effective with this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rgeted Interv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ceptual Based I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aningfu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)  Visual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D509-C979-4521-B7D0-E929A22573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Inside/Outside Circ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2934-81F8-4619-BFDA-713C9F4F9B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onut 1"/>
          <p:cNvSpPr/>
          <p:nvPr/>
        </p:nvSpPr>
        <p:spPr>
          <a:xfrm>
            <a:off x="2476440" y="1649520"/>
            <a:ext cx="3886200" cy="3608280"/>
          </a:xfrm>
          <a:custGeom>
            <a:avLst/>
            <a:gdLst/>
            <a:ahLst/>
            <a:rect l="l" t="t" r="r" b="b"/>
            <a:pathLst>
              <a:path w="3886200" h="3608387">
                <a:moveTo>
                  <a:pt x="0" y="1804194"/>
                </a:moveTo>
                <a:cubicBezTo>
                  <a:pt x="0" y="807765"/>
                  <a:pt x="869956" y="0"/>
                  <a:pt x="1943100" y="0"/>
                </a:cubicBezTo>
                <a:cubicBezTo>
                  <a:pt x="3016244" y="0"/>
                  <a:pt x="3886200" y="807765"/>
                  <a:pt x="3886200" y="1804194"/>
                </a:cubicBezTo>
                <a:cubicBezTo>
                  <a:pt x="3886200" y="2800623"/>
                  <a:pt x="3016244" y="3608388"/>
                  <a:pt x="1943100" y="3608388"/>
                </a:cubicBezTo>
                <a:cubicBezTo>
                  <a:pt x="869956" y="3608388"/>
                  <a:pt x="0" y="2800623"/>
                  <a:pt x="0" y="1804194"/>
                </a:cubicBezTo>
                <a:close/>
                <a:moveTo>
                  <a:pt x="902097" y="1804194"/>
                </a:moveTo>
                <a:cubicBezTo>
                  <a:pt x="902097" y="2302408"/>
                  <a:pt x="1368170" y="2706291"/>
                  <a:pt x="1943100" y="2706291"/>
                </a:cubicBezTo>
                <a:cubicBezTo>
                  <a:pt x="2518030" y="2706291"/>
                  <a:pt x="2984103" y="2302408"/>
                  <a:pt x="2984103" y="1804194"/>
                </a:cubicBezTo>
                <a:cubicBezTo>
                  <a:pt x="2984103" y="1305980"/>
                  <a:pt x="2518030" y="902097"/>
                  <a:pt x="1943100" y="902097"/>
                </a:cubicBezTo>
                <a:cubicBezTo>
                  <a:pt x="1368170" y="902097"/>
                  <a:pt x="902097" y="1305980"/>
                  <a:pt x="902097" y="1804194"/>
                </a:cubicBez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3177000" y="3186000"/>
            <a:ext cx="418680" cy="381240"/>
            <a:chOff x="3177000" y="3186000"/>
            <a:chExt cx="418680" cy="381240"/>
          </a:xfrm>
        </p:grpSpPr>
        <p:sp>
          <p:nvSpPr>
            <p:cNvPr id="62" name="AutoShape 6"/>
            <p:cNvSpPr/>
            <p:nvPr/>
          </p:nvSpPr>
          <p:spPr>
            <a:xfrm flipH="1">
              <a:off x="3176640" y="3186000"/>
              <a:ext cx="418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9"/>
            <p:cNvSpPr/>
            <p:nvPr/>
          </p:nvSpPr>
          <p:spPr>
            <a:xfrm flipH="1">
              <a:off x="3176640" y="3186000"/>
              <a:ext cx="4186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0"/>
            <p:cNvSpPr/>
            <p:nvPr/>
          </p:nvSpPr>
          <p:spPr>
            <a:xfrm flipH="1">
              <a:off x="3434760" y="328788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"/>
            <p:cNvSpPr/>
            <p:nvPr/>
          </p:nvSpPr>
          <p:spPr>
            <a:xfrm flipH="1">
              <a:off x="3433320" y="3286080"/>
              <a:ext cx="4464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2"/>
            <p:cNvSpPr/>
            <p:nvPr/>
          </p:nvSpPr>
          <p:spPr>
            <a:xfrm flipH="1">
              <a:off x="3295440" y="3286080"/>
              <a:ext cx="4464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"/>
            <p:cNvSpPr/>
            <p:nvPr/>
          </p:nvSpPr>
          <p:spPr>
            <a:xfrm flipH="1">
              <a:off x="3295440" y="3286080"/>
              <a:ext cx="4464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4"/>
            <p:cNvSpPr/>
            <p:nvPr/>
          </p:nvSpPr>
          <p:spPr>
            <a:xfrm flipH="1">
              <a:off x="3233520" y="3390840"/>
              <a:ext cx="28584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5"/>
            <p:cNvSpPr/>
            <p:nvPr/>
          </p:nvSpPr>
          <p:spPr>
            <a:xfrm flipH="1">
              <a:off x="3233520" y="3390840"/>
              <a:ext cx="28584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7"/>
          <p:cNvGrpSpPr/>
          <p:nvPr/>
        </p:nvGrpSpPr>
        <p:grpSpPr>
          <a:xfrm>
            <a:off x="3426120" y="3809880"/>
            <a:ext cx="418680" cy="381240"/>
            <a:chOff x="3426120" y="3809880"/>
            <a:chExt cx="418680" cy="381240"/>
          </a:xfrm>
        </p:grpSpPr>
        <p:sp>
          <p:nvSpPr>
            <p:cNvPr id="71" name="AutoShape 6"/>
            <p:cNvSpPr/>
            <p:nvPr/>
          </p:nvSpPr>
          <p:spPr>
            <a:xfrm flipH="1">
              <a:off x="3425760" y="3809880"/>
              <a:ext cx="418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9"/>
            <p:cNvSpPr/>
            <p:nvPr/>
          </p:nvSpPr>
          <p:spPr>
            <a:xfrm flipH="1">
              <a:off x="3425760" y="3809880"/>
              <a:ext cx="4186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0"/>
            <p:cNvSpPr/>
            <p:nvPr/>
          </p:nvSpPr>
          <p:spPr>
            <a:xfrm flipH="1">
              <a:off x="3683880" y="391176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 flipH="1">
              <a:off x="3682440" y="3909960"/>
              <a:ext cx="4464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>
              <a:off x="3544560" y="3909960"/>
              <a:ext cx="4464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 flipH="1">
              <a:off x="3544560" y="3909960"/>
              <a:ext cx="4464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flipH="1">
              <a:off x="3482640" y="4014720"/>
              <a:ext cx="28584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flipH="1">
              <a:off x="3482640" y="4014720"/>
              <a:ext cx="28584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3559680" y="2544840"/>
            <a:ext cx="418680" cy="380880"/>
            <a:chOff x="3559680" y="2544840"/>
            <a:chExt cx="418680" cy="380880"/>
          </a:xfrm>
        </p:grpSpPr>
        <p:sp>
          <p:nvSpPr>
            <p:cNvPr id="80" name="AutoShape 6"/>
            <p:cNvSpPr/>
            <p:nvPr/>
          </p:nvSpPr>
          <p:spPr>
            <a:xfrm flipH="1">
              <a:off x="3559320" y="2544840"/>
              <a:ext cx="41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9"/>
            <p:cNvSpPr/>
            <p:nvPr/>
          </p:nvSpPr>
          <p:spPr>
            <a:xfrm flipH="1">
              <a:off x="3559320" y="2544840"/>
              <a:ext cx="418680" cy="38088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0"/>
            <p:cNvSpPr/>
            <p:nvPr/>
          </p:nvSpPr>
          <p:spPr>
            <a:xfrm flipH="1">
              <a:off x="3817440" y="2646360"/>
              <a:ext cx="43200" cy="8208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1"/>
            <p:cNvSpPr/>
            <p:nvPr/>
          </p:nvSpPr>
          <p:spPr>
            <a:xfrm flipH="1">
              <a:off x="3816000" y="2644560"/>
              <a:ext cx="44640" cy="8532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 flipH="1">
              <a:off x="3678120" y="2644560"/>
              <a:ext cx="44640" cy="8388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 flipH="1">
              <a:off x="3678120" y="2644560"/>
              <a:ext cx="44640" cy="8532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 flipH="1">
              <a:off x="3616200" y="2749320"/>
              <a:ext cx="285840" cy="10908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 flipH="1">
              <a:off x="3616200" y="2749320"/>
              <a:ext cx="285840" cy="10908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7"/>
          <p:cNvGrpSpPr/>
          <p:nvPr/>
        </p:nvGrpSpPr>
        <p:grpSpPr>
          <a:xfrm>
            <a:off x="4215240" y="2355840"/>
            <a:ext cx="418680" cy="380880"/>
            <a:chOff x="4215240" y="2355840"/>
            <a:chExt cx="418680" cy="380880"/>
          </a:xfrm>
        </p:grpSpPr>
        <p:sp>
          <p:nvSpPr>
            <p:cNvPr id="89" name="AutoShape 6"/>
            <p:cNvSpPr/>
            <p:nvPr/>
          </p:nvSpPr>
          <p:spPr>
            <a:xfrm flipH="1">
              <a:off x="4214880" y="2355840"/>
              <a:ext cx="41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"/>
            <p:cNvSpPr/>
            <p:nvPr/>
          </p:nvSpPr>
          <p:spPr>
            <a:xfrm flipH="1">
              <a:off x="4214880" y="2355840"/>
              <a:ext cx="418680" cy="38088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 flipH="1">
              <a:off x="4473000" y="2457360"/>
              <a:ext cx="43200" cy="8208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 flipH="1">
              <a:off x="4471560" y="2455560"/>
              <a:ext cx="44640" cy="8532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 flipH="1">
              <a:off x="4333680" y="2455560"/>
              <a:ext cx="44640" cy="8388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 flipH="1">
              <a:off x="4333680" y="2455560"/>
              <a:ext cx="44640" cy="8532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4"/>
            <p:cNvSpPr/>
            <p:nvPr/>
          </p:nvSpPr>
          <p:spPr>
            <a:xfrm flipH="1">
              <a:off x="4271760" y="2560320"/>
              <a:ext cx="285840" cy="10908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5"/>
            <p:cNvSpPr/>
            <p:nvPr/>
          </p:nvSpPr>
          <p:spPr>
            <a:xfrm flipH="1">
              <a:off x="4271760" y="2560320"/>
              <a:ext cx="285840" cy="10908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7"/>
          <p:cNvGrpSpPr/>
          <p:nvPr/>
        </p:nvGrpSpPr>
        <p:grpSpPr>
          <a:xfrm>
            <a:off x="4980240" y="2668680"/>
            <a:ext cx="418680" cy="380880"/>
            <a:chOff x="4980240" y="2668680"/>
            <a:chExt cx="418680" cy="380880"/>
          </a:xfrm>
        </p:grpSpPr>
        <p:sp>
          <p:nvSpPr>
            <p:cNvPr id="98" name="AutoShape 6"/>
            <p:cNvSpPr/>
            <p:nvPr/>
          </p:nvSpPr>
          <p:spPr>
            <a:xfrm flipH="1">
              <a:off x="4979880" y="2668680"/>
              <a:ext cx="41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 flipH="1">
              <a:off x="4979880" y="2668680"/>
              <a:ext cx="418680" cy="38088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 flipH="1">
              <a:off x="5238000" y="2770200"/>
              <a:ext cx="43200" cy="8208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 flipH="1">
              <a:off x="5236560" y="2768400"/>
              <a:ext cx="44640" cy="8532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 flipH="1">
              <a:off x="5098680" y="2768400"/>
              <a:ext cx="44640" cy="8388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 flipH="1">
              <a:off x="5098680" y="2768400"/>
              <a:ext cx="44640" cy="8532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 flipH="1">
              <a:off x="5036760" y="2873160"/>
              <a:ext cx="285840" cy="10908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 flipH="1">
              <a:off x="5036760" y="2873160"/>
              <a:ext cx="285840" cy="10908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4905720" y="3898800"/>
            <a:ext cx="418680" cy="381240"/>
            <a:chOff x="4905720" y="3898800"/>
            <a:chExt cx="418680" cy="381240"/>
          </a:xfrm>
        </p:grpSpPr>
        <p:sp>
          <p:nvSpPr>
            <p:cNvPr id="107" name="AutoShape 6"/>
            <p:cNvSpPr/>
            <p:nvPr/>
          </p:nvSpPr>
          <p:spPr>
            <a:xfrm flipH="1">
              <a:off x="4905360" y="3898800"/>
              <a:ext cx="418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 flipH="1">
              <a:off x="4905360" y="3898800"/>
              <a:ext cx="4186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 flipH="1">
              <a:off x="5163480" y="400068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 flipH="1">
              <a:off x="5162040" y="3998880"/>
              <a:ext cx="4464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 flipH="1">
              <a:off x="5024160" y="3998880"/>
              <a:ext cx="4464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 flipH="1">
              <a:off x="5024160" y="3998880"/>
              <a:ext cx="4464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 flipH="1">
              <a:off x="4962240" y="4103640"/>
              <a:ext cx="28584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 flipH="1">
              <a:off x="4962240" y="4103640"/>
              <a:ext cx="28584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7"/>
          <p:cNvGrpSpPr/>
          <p:nvPr/>
        </p:nvGrpSpPr>
        <p:grpSpPr>
          <a:xfrm>
            <a:off x="4200840" y="4124160"/>
            <a:ext cx="418680" cy="381240"/>
            <a:chOff x="4200840" y="4124160"/>
            <a:chExt cx="418680" cy="381240"/>
          </a:xfrm>
        </p:grpSpPr>
        <p:sp>
          <p:nvSpPr>
            <p:cNvPr id="116" name="AutoShape 6"/>
            <p:cNvSpPr/>
            <p:nvPr/>
          </p:nvSpPr>
          <p:spPr>
            <a:xfrm flipH="1">
              <a:off x="4200480" y="4124160"/>
              <a:ext cx="418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 flipH="1">
              <a:off x="4200480" y="4124160"/>
              <a:ext cx="4186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 flipH="1">
              <a:off x="4458600" y="422604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 flipH="1">
              <a:off x="4457160" y="4224240"/>
              <a:ext cx="4464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 flipH="1">
              <a:off x="4319280" y="4224240"/>
              <a:ext cx="4464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 flipH="1">
              <a:off x="4319280" y="4224240"/>
              <a:ext cx="4464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 flipH="1">
              <a:off x="4257360" y="4329000"/>
              <a:ext cx="28584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 flipH="1">
              <a:off x="4257360" y="4329000"/>
              <a:ext cx="28584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7"/>
          <p:cNvGrpSpPr/>
          <p:nvPr/>
        </p:nvGrpSpPr>
        <p:grpSpPr>
          <a:xfrm>
            <a:off x="5238720" y="3279600"/>
            <a:ext cx="420480" cy="381240"/>
            <a:chOff x="5238720" y="3279600"/>
            <a:chExt cx="420480" cy="381240"/>
          </a:xfrm>
        </p:grpSpPr>
        <p:sp>
          <p:nvSpPr>
            <p:cNvPr id="125" name="AutoShape 6"/>
            <p:cNvSpPr/>
            <p:nvPr/>
          </p:nvSpPr>
          <p:spPr>
            <a:xfrm flipH="1">
              <a:off x="5238720" y="3279600"/>
              <a:ext cx="420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 flipH="1">
              <a:off x="5238720" y="3279600"/>
              <a:ext cx="4204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 flipH="1">
              <a:off x="5497560" y="338148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 flipH="1">
              <a:off x="5495400" y="3379680"/>
              <a:ext cx="4500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 flipH="1">
              <a:off x="5357160" y="3379680"/>
              <a:ext cx="4500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 flipH="1">
              <a:off x="5357160" y="3379680"/>
              <a:ext cx="4500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 flipH="1">
              <a:off x="5295240" y="3484440"/>
              <a:ext cx="28692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 flipH="1">
              <a:off x="5295240" y="3484440"/>
              <a:ext cx="28692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8"/>
          <p:cNvGrpSpPr/>
          <p:nvPr/>
        </p:nvGrpSpPr>
        <p:grpSpPr>
          <a:xfrm>
            <a:off x="5789520" y="2235240"/>
            <a:ext cx="381240" cy="380880"/>
            <a:chOff x="5789520" y="2235240"/>
            <a:chExt cx="381240" cy="380880"/>
          </a:xfrm>
        </p:grpSpPr>
        <p:sp>
          <p:nvSpPr>
            <p:cNvPr id="134" name="AutoShape 17"/>
            <p:cNvSpPr/>
            <p:nvPr/>
          </p:nvSpPr>
          <p:spPr>
            <a:xfrm>
              <a:off x="5789520" y="223524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5789520" y="223524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5897520" y="233676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5897520" y="233496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6023160" y="233496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6023160" y="233496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859360" y="243972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5859360" y="243972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8"/>
          <p:cNvGrpSpPr/>
          <p:nvPr/>
        </p:nvGrpSpPr>
        <p:grpSpPr>
          <a:xfrm>
            <a:off x="4186080" y="1459080"/>
            <a:ext cx="381240" cy="380880"/>
            <a:chOff x="4186080" y="1459080"/>
            <a:chExt cx="381240" cy="380880"/>
          </a:xfrm>
        </p:grpSpPr>
        <p:sp>
          <p:nvSpPr>
            <p:cNvPr id="143" name="AutoShape 17"/>
            <p:cNvSpPr/>
            <p:nvPr/>
          </p:nvSpPr>
          <p:spPr>
            <a:xfrm>
              <a:off x="4186080" y="145908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0"/>
            <p:cNvSpPr/>
            <p:nvPr/>
          </p:nvSpPr>
          <p:spPr>
            <a:xfrm>
              <a:off x="4186080" y="145908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1"/>
            <p:cNvSpPr/>
            <p:nvPr/>
          </p:nvSpPr>
          <p:spPr>
            <a:xfrm>
              <a:off x="4294080" y="156060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4294080" y="155880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4419720" y="155880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4419720" y="155880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4255920" y="166356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6"/>
            <p:cNvSpPr/>
            <p:nvPr/>
          </p:nvSpPr>
          <p:spPr>
            <a:xfrm>
              <a:off x="4255920" y="166356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8"/>
          <p:cNvGrpSpPr/>
          <p:nvPr/>
        </p:nvGrpSpPr>
        <p:grpSpPr>
          <a:xfrm>
            <a:off x="2584440" y="2075040"/>
            <a:ext cx="380880" cy="380880"/>
            <a:chOff x="2584440" y="2075040"/>
            <a:chExt cx="380880" cy="380880"/>
          </a:xfrm>
        </p:grpSpPr>
        <p:sp>
          <p:nvSpPr>
            <p:cNvPr id="152" name="AutoShape 17"/>
            <p:cNvSpPr/>
            <p:nvPr/>
          </p:nvSpPr>
          <p:spPr>
            <a:xfrm>
              <a:off x="2584440" y="207504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0"/>
            <p:cNvSpPr/>
            <p:nvPr/>
          </p:nvSpPr>
          <p:spPr>
            <a:xfrm>
              <a:off x="2584440" y="2075040"/>
              <a:ext cx="38088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1"/>
            <p:cNvSpPr/>
            <p:nvPr/>
          </p:nvSpPr>
          <p:spPr>
            <a:xfrm>
              <a:off x="2692080" y="2176560"/>
              <a:ext cx="3924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2692080" y="217476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>
              <a:off x="2817720" y="2174760"/>
              <a:ext cx="3924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>
              <a:off x="2817720" y="217476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>
              <a:off x="2653920" y="2279520"/>
              <a:ext cx="25848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6"/>
            <p:cNvSpPr/>
            <p:nvPr/>
          </p:nvSpPr>
          <p:spPr>
            <a:xfrm>
              <a:off x="2653920" y="2279520"/>
              <a:ext cx="25848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2209680" y="3214800"/>
            <a:ext cx="381240" cy="380880"/>
            <a:chOff x="2209680" y="3214800"/>
            <a:chExt cx="381240" cy="380880"/>
          </a:xfrm>
        </p:grpSpPr>
        <p:sp>
          <p:nvSpPr>
            <p:cNvPr id="161" name="AutoShape 17"/>
            <p:cNvSpPr/>
            <p:nvPr/>
          </p:nvSpPr>
          <p:spPr>
            <a:xfrm>
              <a:off x="2209680" y="32148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0"/>
            <p:cNvSpPr/>
            <p:nvPr/>
          </p:nvSpPr>
          <p:spPr>
            <a:xfrm>
              <a:off x="2209680" y="321480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1"/>
            <p:cNvSpPr/>
            <p:nvPr/>
          </p:nvSpPr>
          <p:spPr>
            <a:xfrm>
              <a:off x="2317680" y="331632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2"/>
            <p:cNvSpPr/>
            <p:nvPr/>
          </p:nvSpPr>
          <p:spPr>
            <a:xfrm>
              <a:off x="2317680" y="331452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3"/>
            <p:cNvSpPr/>
            <p:nvPr/>
          </p:nvSpPr>
          <p:spPr>
            <a:xfrm>
              <a:off x="2443320" y="331452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4"/>
            <p:cNvSpPr/>
            <p:nvPr/>
          </p:nvSpPr>
          <p:spPr>
            <a:xfrm>
              <a:off x="2443320" y="331452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5"/>
            <p:cNvSpPr/>
            <p:nvPr/>
          </p:nvSpPr>
          <p:spPr>
            <a:xfrm>
              <a:off x="2279520" y="341928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6"/>
            <p:cNvSpPr/>
            <p:nvPr/>
          </p:nvSpPr>
          <p:spPr>
            <a:xfrm>
              <a:off x="2279520" y="341928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8"/>
          <p:cNvGrpSpPr/>
          <p:nvPr/>
        </p:nvGrpSpPr>
        <p:grpSpPr>
          <a:xfrm>
            <a:off x="2666880" y="4464000"/>
            <a:ext cx="381240" cy="380880"/>
            <a:chOff x="2666880" y="4464000"/>
            <a:chExt cx="381240" cy="380880"/>
          </a:xfrm>
        </p:grpSpPr>
        <p:sp>
          <p:nvSpPr>
            <p:cNvPr id="170" name="AutoShape 17"/>
            <p:cNvSpPr/>
            <p:nvPr/>
          </p:nvSpPr>
          <p:spPr>
            <a:xfrm>
              <a:off x="2666880" y="44640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0"/>
            <p:cNvSpPr/>
            <p:nvPr/>
          </p:nvSpPr>
          <p:spPr>
            <a:xfrm>
              <a:off x="2666880" y="446400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1"/>
            <p:cNvSpPr/>
            <p:nvPr/>
          </p:nvSpPr>
          <p:spPr>
            <a:xfrm>
              <a:off x="2774880" y="456552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2"/>
            <p:cNvSpPr/>
            <p:nvPr/>
          </p:nvSpPr>
          <p:spPr>
            <a:xfrm>
              <a:off x="2774880" y="456372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3"/>
            <p:cNvSpPr/>
            <p:nvPr/>
          </p:nvSpPr>
          <p:spPr>
            <a:xfrm>
              <a:off x="2900520" y="456372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4"/>
            <p:cNvSpPr/>
            <p:nvPr/>
          </p:nvSpPr>
          <p:spPr>
            <a:xfrm>
              <a:off x="2900520" y="456372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5"/>
            <p:cNvSpPr/>
            <p:nvPr/>
          </p:nvSpPr>
          <p:spPr>
            <a:xfrm>
              <a:off x="2736720" y="466848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6"/>
            <p:cNvSpPr/>
            <p:nvPr/>
          </p:nvSpPr>
          <p:spPr>
            <a:xfrm>
              <a:off x="2736720" y="466848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4238640" y="5067360"/>
            <a:ext cx="380880" cy="380880"/>
            <a:chOff x="4238640" y="5067360"/>
            <a:chExt cx="380880" cy="380880"/>
          </a:xfrm>
        </p:grpSpPr>
        <p:sp>
          <p:nvSpPr>
            <p:cNvPr id="179" name="AutoShape 17"/>
            <p:cNvSpPr/>
            <p:nvPr/>
          </p:nvSpPr>
          <p:spPr>
            <a:xfrm>
              <a:off x="4238640" y="506736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4238640" y="5067360"/>
              <a:ext cx="38088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4346280" y="5168880"/>
              <a:ext cx="3924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346280" y="516708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4471920" y="5167080"/>
              <a:ext cx="3924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4471920" y="516708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4308120" y="5271840"/>
              <a:ext cx="25848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4308120" y="5271840"/>
              <a:ext cx="25848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8"/>
          <p:cNvGrpSpPr/>
          <p:nvPr/>
        </p:nvGrpSpPr>
        <p:grpSpPr>
          <a:xfrm>
            <a:off x="6157800" y="3494160"/>
            <a:ext cx="381240" cy="380880"/>
            <a:chOff x="6157800" y="3494160"/>
            <a:chExt cx="381240" cy="380880"/>
          </a:xfrm>
        </p:grpSpPr>
        <p:sp>
          <p:nvSpPr>
            <p:cNvPr id="188" name="AutoShape 17"/>
            <p:cNvSpPr/>
            <p:nvPr/>
          </p:nvSpPr>
          <p:spPr>
            <a:xfrm>
              <a:off x="6157800" y="349416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0"/>
            <p:cNvSpPr/>
            <p:nvPr/>
          </p:nvSpPr>
          <p:spPr>
            <a:xfrm>
              <a:off x="6157800" y="349416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1"/>
            <p:cNvSpPr/>
            <p:nvPr/>
          </p:nvSpPr>
          <p:spPr>
            <a:xfrm>
              <a:off x="6265800" y="359568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2"/>
            <p:cNvSpPr/>
            <p:nvPr/>
          </p:nvSpPr>
          <p:spPr>
            <a:xfrm>
              <a:off x="6265800" y="359388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3"/>
            <p:cNvSpPr/>
            <p:nvPr/>
          </p:nvSpPr>
          <p:spPr>
            <a:xfrm>
              <a:off x="6391440" y="359388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"/>
            <p:cNvSpPr/>
            <p:nvPr/>
          </p:nvSpPr>
          <p:spPr>
            <a:xfrm>
              <a:off x="6391440" y="359388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6227640" y="369864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6"/>
            <p:cNvSpPr/>
            <p:nvPr/>
          </p:nvSpPr>
          <p:spPr>
            <a:xfrm>
              <a:off x="6227640" y="369864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8"/>
          <p:cNvGrpSpPr/>
          <p:nvPr/>
        </p:nvGrpSpPr>
        <p:grpSpPr>
          <a:xfrm>
            <a:off x="5668920" y="4438800"/>
            <a:ext cx="380880" cy="380880"/>
            <a:chOff x="5668920" y="4438800"/>
            <a:chExt cx="380880" cy="380880"/>
          </a:xfrm>
        </p:grpSpPr>
        <p:sp>
          <p:nvSpPr>
            <p:cNvPr id="197" name="AutoShape 17"/>
            <p:cNvSpPr/>
            <p:nvPr/>
          </p:nvSpPr>
          <p:spPr>
            <a:xfrm>
              <a:off x="5668920" y="44388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5668920" y="4438800"/>
              <a:ext cx="38088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>
              <a:off x="5776560" y="4540320"/>
              <a:ext cx="3924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2"/>
            <p:cNvSpPr/>
            <p:nvPr/>
          </p:nvSpPr>
          <p:spPr>
            <a:xfrm>
              <a:off x="5776560" y="453852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3"/>
            <p:cNvSpPr/>
            <p:nvPr/>
          </p:nvSpPr>
          <p:spPr>
            <a:xfrm>
              <a:off x="5902200" y="4538520"/>
              <a:ext cx="3924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4"/>
            <p:cNvSpPr/>
            <p:nvPr/>
          </p:nvSpPr>
          <p:spPr>
            <a:xfrm>
              <a:off x="5902200" y="453852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5"/>
            <p:cNvSpPr/>
            <p:nvPr/>
          </p:nvSpPr>
          <p:spPr>
            <a:xfrm>
              <a:off x="5738400" y="4643280"/>
              <a:ext cx="25848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6"/>
            <p:cNvSpPr/>
            <p:nvPr/>
          </p:nvSpPr>
          <p:spPr>
            <a:xfrm>
              <a:off x="5738400" y="4643280"/>
              <a:ext cx="25848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Choice Tas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293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B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 Grade 9 GAP Clo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a module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the diagnost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suggested intervention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ine Facilitator’s gu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BLM PR 4.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Your Own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ose a 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e difficul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n Open 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gest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BLM PR4.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0F97-DBAA-4D4B-9AAF-04AC8536B2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457200" y="47242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Modules most closely aligned with CAMPPP top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s, Proportional Reaso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ic Expressions and Equations, Solving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you use the GAP closing materials with your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you incorporate some of the “features” of GAP closing into your instructional pract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ole do open questions currently play in your classroom? How might you use them to support struggling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8230-C90C-45C6-8B45-CE0BF399AE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Z:\Clip Art\Travel &amp; Leisure\Vacations (F - Q)\Map.wmf"/>
          <p:cNvPicPr/>
          <p:nvPr/>
        </p:nvPicPr>
        <p:blipFill>
          <a:blip r:embed="rId1"/>
          <a:stretch/>
        </p:blipFill>
        <p:spPr>
          <a:xfrm>
            <a:off x="6553080" y="1951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Z:\Clip Art\Travel &amp; Leisure\Vacations (F - Q)\Passport 1.wmf"/>
          <p:cNvPicPr/>
          <p:nvPr/>
        </p:nvPicPr>
        <p:blipFill>
          <a:blip r:embed="rId2"/>
          <a:stretch/>
        </p:blipFill>
        <p:spPr>
          <a:xfrm rot="21444000">
            <a:off x="7997400" y="510840"/>
            <a:ext cx="83844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ying it All Togeth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C4CA-E1EE-4D90-A058-DFA4672F45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14400" y="1309680"/>
            <a:ext cx="3276720" cy="461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4376880" y="1444680"/>
            <a:ext cx="4827600" cy="31338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1219320" y="17146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of the wee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resonates with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ffirmed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new idea struck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5354640" y="1676520"/>
            <a:ext cx="2819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 of the we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you puzzling ov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you ponder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question do you still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ying it All Togeth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49F9-A15B-4FEA-B521-057D580F8A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467320" cy="34862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>
            <a:off x="533520" y="16002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light bulb/ puzzle piece to one of the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a couple of ideas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6840" y="1600200"/>
            <a:ext cx="533412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 you for letting us journey through this week of learning with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877C-FB67-4B66-B9A3-176E1A7CEF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Z:\Clip Art\Occasions\Parties (A - L)\Balloons 03.wmf"/>
          <p:cNvPicPr/>
          <p:nvPr/>
        </p:nvPicPr>
        <p:blipFill>
          <a:blip r:embed="rId1"/>
          <a:stretch/>
        </p:blipFill>
        <p:spPr>
          <a:xfrm>
            <a:off x="5791320" y="380880"/>
            <a:ext cx="3582720" cy="560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agrafton</cp:lastModifiedBy>
  <dcterms:modified xsi:type="dcterms:W3CDTF">2011-08-10T16:49:02Z</dcterms:modified>
  <cp:revision>16</cp:revision>
  <dc:subject/>
  <dc:title>&lt;Title&gt;</dc:title>
</cp:coreProperties>
</file>